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5EC5-B802-4FE4-AB0E-D5F46B958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B0E7-EE47-41D0-83D5-D1E72FF4F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B2E8-76F1-49DD-8259-5DAB9823E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4324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1812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836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4324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1812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0A79-E293-4D99-9E49-086CF70DD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AED52B-9700-4959-AA37-5C64EF28B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7F4898-3B37-4471-BFDE-C689D1C60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D31EF5-0EE1-479B-B8BA-667B7F9DB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25F8B0-F1E9-4050-B587-9B8DAAB8C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25ECDB-7B85-4479-9EFD-D763E6D06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068F1E-5B81-4E60-9B4D-AB6620879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319525-6DAE-4744-B330-D8A9F0D1D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F82B-4AD3-48EE-97D8-9F8359C3F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9CF6F5-DA64-4D30-BDC1-3F78F72BB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CD132D-2638-4A7B-B5B9-F8DB91777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EA8199-CD5F-48B7-93F9-485BD3AAD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F14D6A-10C5-4209-BB7F-713B356F6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4324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1812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836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4324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1812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51E2F1-CC8A-4BDC-A159-CD27B1DFC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B7BA-50B8-4EAC-B81A-19F17955C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D2D3-466B-44F0-9DCB-D7856817C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04BA-C312-4563-A36D-9EAD36B4E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C507-E647-47A4-8110-ECDCC7BA5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96D2-FCD2-4E0F-A6F7-5242A1DD6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F213-C54D-4763-8587-BC4CB6971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4764-97DD-446A-ADD9-3527FA7F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9C853-C349-4486-8389-982BC3E83BA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" name="" descr=""/>
          <p:cNvPicPr/>
          <p:nvPr/>
        </p:nvPicPr>
        <p:blipFill>
          <a:blip r:embed="rId2"/>
          <a:srcRect l="0" t="9114" r="13524" b="8701"/>
          <a:stretch/>
        </p:blipFill>
        <p:spPr>
          <a:xfrm>
            <a:off x="7956720" y="6068880"/>
            <a:ext cx="1091880" cy="668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9C98B-C50C-4803-9C9D-51A5C17C387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3ff"/>
                </a:solidFill>
                <a:latin typeface="Arial"/>
              </a:rPr>
              <a:t>Microlight Activity Analysi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403280" y="3357720"/>
            <a:ext cx="6400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IMA Meeting November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3ff"/>
                </a:solidFill>
                <a:latin typeface="Arial"/>
              </a:rPr>
              <a:t>Contributing Countri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42800" y="1412640"/>
            <a:ext cx="3151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ust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lg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raz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zech Republ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n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rma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uatema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ung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re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18200" y="1412640"/>
            <a:ext cx="3457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ta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ap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eny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rw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ug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love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uth Af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wed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witzer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87200" y="144360"/>
            <a:ext cx="8799480" cy="65088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7024680"/>
            <a:ext cx="828720" cy="2872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65160" y="7035840"/>
            <a:ext cx="828720" cy="2872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7440480"/>
            <a:ext cx="828720" cy="9223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41400" y="7442280"/>
            <a:ext cx="828720" cy="2872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8737E-007 C 0.08247 -0.31853 0.16493 -0.63636 0.31528 -0.74786 C 0.46563 -0.85935 0.80521 -0.68286 0.90243 -0.66944 E">
                                      <p:cBhvr>
                                        <p:cTn id="6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13347E-006 C 0.02222 -0.38029 0.04445 -0.76058 0.17656 -0.84016 C 0.30868 -0.91973 0.69028 -0.53828 0.79306 -0.47791 E">
                                      <p:cBhvr>
                                        <p:cTn id="15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7474E-007 C 0.14445 -0.3708 0.28889 -0.74138 0.43854 -0.82304 C 0.58854 -0.90469 0.74358 -0.69766 0.89879 -0.49063 E">
                                      <p:cBhvr>
                                        <p:cTn id="24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1.32084E-006 C 0.11372 -0.33588 0.22761 -0.67152 0.36112 -0.69743 C 0.49463 -0.72334 0.72779 -0.24543 0.80122 -0.15499 E">
                                      <p:cBhvr>
                                        <p:cTn id="33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4680" y="-85680"/>
            <a:ext cx="9153360" cy="6364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34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97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64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-468360" y="0"/>
            <a:ext cx="9144000" cy="5981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06:50:18Z</dcterms:created>
  <dc:creator>Keith Negal</dc:creator>
  <dc:description/>
  <dc:language>en-US</dc:language>
  <cp:lastModifiedBy>Keith Negal</cp:lastModifiedBy>
  <dcterms:modified xsi:type="dcterms:W3CDTF">2005-11-17T14:52:57Z</dcterms:modified>
  <cp:revision>6</cp:revision>
  <dc:subject/>
  <dc:title>Slide 1</dc:title>
</cp:coreProperties>
</file>